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BCE-C57C-46D2-9BA2-3FCB954F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570-E887-4474-9C6F-10C0BA9B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B72-EE13-4005-BA82-336D9E2D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084-8145-499F-975B-E8B0AA8F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19A-4EE3-4D6B-AD94-942E478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81D-24E2-489F-BD0C-96C09A4E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A01-ED07-4DA5-85CB-6C10C843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352-F01C-4A8B-BDA4-737A678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340-2D8F-4B7E-B8C2-CCD63E5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F3F-9B71-4EA3-93B7-2C2B5C4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C1A-239D-4B0F-947F-7BE8C4F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42F-5D66-49A9-8233-ED139F6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CDBF-D2E7-4FE5-968E-D6E19628C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7:53:42Z</dcterms:created>
  <dc:creator>Grupo Editorial</dc:creator>
  <dc:description/>
  <dc:language>en-US</dc:language>
  <cp:lastModifiedBy>Grupo Editorial</cp:lastModifiedBy>
  <dcterms:modified xsi:type="dcterms:W3CDTF">2001-10-04T07:57:27Z</dcterms:modified>
  <cp:revision>1</cp:revision>
  <dc:subject/>
  <dc:title>Sin título de diapositiva</dc:title>
</cp:coreProperties>
</file>